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963F-163C-4820-8CD6-425F0749CD3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37BB-7F54-4BF8-B379-66E39931BDC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203B-6258-4A17-AC86-F5058D2CE31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8299-FF1E-42A0-AC77-9D236E48E65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6B37-D6ED-4ECF-9720-33AE5910C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7CDB-F80A-44B6-BE7B-D892C8AA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5022-3A85-4C4C-B1F1-60DCA82F0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48A5-1AB9-469E-8290-24EACF0EA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8FB5-F147-4021-9A26-3B895692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520B-4808-4D07-8985-EA10C296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BA42-76EE-45F5-8B19-2F27399F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B270-2C34-49C9-A1EB-A844E7A8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3CE6-21D9-4643-B5FB-5AE6F71F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2AEE-7986-49B6-92FD-1CE3F202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E4DC-2360-45DD-914C-83246735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7758-4907-45B7-AE53-D5796829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67AE-029A-495B-9286-AAB911D8B11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00016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800" spc="-1" strike="noStrike">
                <a:solidFill>
                  <a:srgbClr val="ffff00"/>
                </a:solidFill>
                <a:latin typeface="Calibri"/>
              </a:rPr>
              <a:t>Środowisko </a:t>
            </a:r>
            <a:br>
              <a:rPr sz="8800"/>
            </a:br>
            <a:r>
              <a:rPr b="0" lang="pl-PL" sz="8800" spc="-1" strike="noStrike">
                <a:solidFill>
                  <a:srgbClr val="ffff00"/>
                </a:solidFill>
                <a:latin typeface="Calibri"/>
              </a:rPr>
              <a:t>przyrodnicz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6572160" y="5214960"/>
            <a:ext cx="1109880" cy="1214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3"/>
          <a:stretch/>
        </p:blipFill>
        <p:spPr>
          <a:xfrm>
            <a:off x="0" y="5072040"/>
            <a:ext cx="18828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raz 4" descr="IMG_1875.JPG"/>
          <p:cNvPicPr/>
          <p:nvPr/>
        </p:nvPicPr>
        <p:blipFill>
          <a:blip r:embed="rId1"/>
          <a:stretch/>
        </p:blipFill>
        <p:spPr>
          <a:xfrm>
            <a:off x="2143080" y="714240"/>
            <a:ext cx="3535560" cy="471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5786280" y="3643200"/>
            <a:ext cx="2571840" cy="209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214200" y="3786120"/>
            <a:ext cx="1882800" cy="1785960"/>
          </a:xfrm>
          <a:prstGeom prst="rect">
            <a:avLst/>
          </a:prstGeom>
          <a:ln w="0">
            <a:noFill/>
          </a:ln>
        </p:spPr>
      </p:pic>
      <p:sp>
        <p:nvSpPr>
          <p:cNvPr id="54" name="pole tekstowe 17"/>
          <p:cNvSpPr/>
          <p:nvPr/>
        </p:nvSpPr>
        <p:spPr>
          <a:xfrm>
            <a:off x="285840" y="1071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raz 5" descr="IMG_1895.JPG"/>
          <p:cNvPicPr/>
          <p:nvPr/>
        </p:nvPicPr>
        <p:blipFill>
          <a:blip r:embed="rId1"/>
          <a:stretch/>
        </p:blipFill>
        <p:spPr>
          <a:xfrm>
            <a:off x="2071800" y="1428840"/>
            <a:ext cx="4668840" cy="350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142920" y="4214880"/>
            <a:ext cx="1285920" cy="137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7500960" y="4643280"/>
            <a:ext cx="1109520" cy="1214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4"/>
          <a:srcRect l="0" t="0" r="48489" b="0"/>
          <a:stretch/>
        </p:blipFill>
        <p:spPr>
          <a:xfrm>
            <a:off x="714240" y="785880"/>
            <a:ext cx="928800" cy="87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5"/>
          <a:stretch/>
        </p:blipFill>
        <p:spPr>
          <a:xfrm>
            <a:off x="6715080" y="0"/>
            <a:ext cx="1827360" cy="3071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6"/>
          <a:srcRect l="48489" t="0" r="0" b="0"/>
          <a:stretch/>
        </p:blipFill>
        <p:spPr>
          <a:xfrm>
            <a:off x="1857240" y="0"/>
            <a:ext cx="857520" cy="808200"/>
          </a:xfrm>
          <a:prstGeom prst="rect">
            <a:avLst/>
          </a:prstGeom>
          <a:ln w="0">
            <a:noFill/>
          </a:ln>
        </p:spPr>
      </p:pic>
      <p:sp>
        <p:nvSpPr>
          <p:cNvPr id="61" name="pole tekstowe 7"/>
          <p:cNvSpPr/>
          <p:nvPr/>
        </p:nvSpPr>
        <p:spPr>
          <a:xfrm>
            <a:off x="3000240" y="5857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raz 3" descr="łąka1.jpg"/>
          <p:cNvPicPr/>
          <p:nvPr/>
        </p:nvPicPr>
        <p:blipFill>
          <a:blip r:embed="rId1"/>
          <a:stretch/>
        </p:blipFill>
        <p:spPr>
          <a:xfrm>
            <a:off x="2143080" y="1500120"/>
            <a:ext cx="4635720" cy="3476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 rot="1783800">
            <a:off x="7286400" y="785520"/>
            <a:ext cx="1357200" cy="1581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3"/>
          <a:stretch/>
        </p:blipFill>
        <p:spPr>
          <a:xfrm rot="2451000">
            <a:off x="361800" y="4664160"/>
            <a:ext cx="1357560" cy="1581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4"/>
          <a:stretch/>
        </p:blipFill>
        <p:spPr>
          <a:xfrm rot="3127200">
            <a:off x="7035840" y="4098600"/>
            <a:ext cx="1209600" cy="1222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5"/>
          <a:stretch/>
        </p:blipFill>
        <p:spPr>
          <a:xfrm rot="7575000">
            <a:off x="462960" y="669960"/>
            <a:ext cx="120960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d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az 5" descr="IMG_1831.JPG"/>
          <p:cNvPicPr/>
          <p:nvPr/>
        </p:nvPicPr>
        <p:blipFill>
          <a:blip r:embed="rId1"/>
          <a:stretch/>
        </p:blipFill>
        <p:spPr>
          <a:xfrm>
            <a:off x="2143080" y="1214280"/>
            <a:ext cx="4929120" cy="3697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 rot="20397600">
            <a:off x="7719840" y="3425760"/>
            <a:ext cx="920880" cy="61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 rot="20397600">
            <a:off x="7005600" y="5211720"/>
            <a:ext cx="920880" cy="611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4"/>
          <a:stretch/>
        </p:blipFill>
        <p:spPr>
          <a:xfrm rot="2175000">
            <a:off x="1163160" y="3784320"/>
            <a:ext cx="91944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raz 3" descr="las1.jpg"/>
          <p:cNvPicPr/>
          <p:nvPr/>
        </p:nvPicPr>
        <p:blipFill>
          <a:blip r:embed="rId1"/>
          <a:stretch/>
        </p:blipFill>
        <p:spPr>
          <a:xfrm>
            <a:off x="1714680" y="1357200"/>
            <a:ext cx="5143320" cy="3857760"/>
          </a:xfrm>
          <a:prstGeom prst="rect">
            <a:avLst/>
          </a:prstGeom>
          <a:ln w="0">
            <a:noFill/>
          </a:ln>
        </p:spPr>
      </p:pic>
      <p:pic>
        <p:nvPicPr>
          <p:cNvPr id="72" name="Obraz 5" descr="drzewo1.bmp"/>
          <p:cNvPicPr/>
          <p:nvPr/>
        </p:nvPicPr>
        <p:blipFill>
          <a:blip r:embed="rId2"/>
          <a:stretch/>
        </p:blipFill>
        <p:spPr>
          <a:xfrm>
            <a:off x="0" y="2428920"/>
            <a:ext cx="1800360" cy="3152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6715080" y="2857680"/>
            <a:ext cx="21463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7143840" y="4572000"/>
            <a:ext cx="2146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23:17:30Z</dcterms:created>
  <dc:creator>Grazyna</dc:creator>
  <dc:description/>
  <dc:language>en-US</dc:language>
  <cp:lastModifiedBy>Grazyna</cp:lastModifiedBy>
  <dcterms:modified xsi:type="dcterms:W3CDTF">2010-03-08T19:49:07Z</dcterms:modified>
  <cp:revision>24</cp:revision>
  <dc:subject/>
  <dc:title>Środowiska naturalne</dc:title>
</cp:coreProperties>
</file>